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C409-A5A1-4F3A-8390-F94863A4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007A-66F9-4502-89A0-89B7285D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88A8-5149-4960-920D-E7BB881D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E1EB-ED37-473A-AE1A-557CB75D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4D11-51B9-4B23-A4C7-3198D387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6DB2-9428-4028-B596-0024E742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B482-A99D-4D5C-8BAC-E580D9FF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0849-DDD6-46A6-8E2A-F48FA858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197E-E127-4D7E-B23D-F1C05141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7BD5-E506-486A-8957-EA64752E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4C58-1A1E-45B9-8A57-8944C3FF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5738-1F53-4C33-8D35-33347AF6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75CE-7688-4D7A-BC39-F5367B975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Хвойные раст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коратив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2c07"/>
                </a:solidFill>
                <a:latin typeface="Tahoma"/>
                <a:ea typeface="Tahoma"/>
              </a:rPr>
              <a:t>Многие хвойные – декоративные раст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1"/>
          <a:stretch/>
        </p:blipFill>
        <p:spPr>
          <a:xfrm>
            <a:off x="4857840" y="1981080"/>
            <a:ext cx="339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Самой процветающей сегодня группой голосеменных растений являю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хвойные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, часто выделяемые в отдел 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</a:rPr>
              <a:t>Кониферофита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ечнозеле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– это деревья либо кустарники, обычно вечнозелёные с цельными игловидными листьями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хвоей</a:t>
            </a:r>
            <a:r>
              <a:rPr b="0" lang="en-US" sz="2000" spc="-1" strike="noStrike">
                <a:solidFill>
                  <a:srgbClr val="172c07"/>
                </a:solidFill>
                <a:latin typeface="Tahoma"/>
                <a:ea typeface="Tahoma"/>
              </a:rPr>
              <a:t>); иногда листья чешуевидные или пластинчатые. Небольшая площадь поверхности листа и толстый восковой слой, покрывающий его, способствуют удержанию в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1" descr=""/>
          <p:cNvPicPr/>
          <p:nvPr/>
        </p:nvPicPr>
        <p:blipFill>
          <a:blip r:embed="rId1"/>
          <a:stretch/>
        </p:blipFill>
        <p:spPr>
          <a:xfrm>
            <a:off x="5033880" y="1981080"/>
            <a:ext cx="303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ревес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ревесине развита ксилема из трахеид с заметными годичными кольц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торые хвойные достигают высоты 50–60 м и даже 100 м и диаметра 6–9 м (например, секвойя) и живут тысячелетия (сосна долговечна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2" descr=""/>
          <p:cNvPicPr/>
          <p:nvPr/>
        </p:nvPicPr>
        <p:blipFill>
          <a:blip r:embed="rId1"/>
          <a:stretch/>
        </p:blipFill>
        <p:spPr>
          <a:xfrm>
            <a:off x="4822920" y="1981080"/>
            <a:ext cx="3459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змнож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– большей частью однодомные растения. Пыльца образуется в микроспорангиях, расположенных на микроспорофиллах, иногда собранных в шишках (у сосны обыкновенной – около 5 мм в диаметре); яйцеклетки образуются на мегастробилах, собранных в шишки (у калифорнийской сосны Ламберта их размеры достигают 65 см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лодотвор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2c07"/>
                </a:solidFill>
                <a:latin typeface="Tahoma"/>
                <a:ea typeface="Tahoma"/>
              </a:rPr>
              <a:t>Опыление происходит при помощи ветра. Пыльцевые зёрна прорастают, достигая яйцеклетки; наличие капельножидкой воды для этого не обязательно. После оплодотворения развивается зародыш, имеющий от 2 до 15 семядолей. У сосны оплодотворение происходит через год после опыления, а на созревание требуется ещё полтора год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еме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2c07"/>
                </a:solidFill>
                <a:latin typeface="Tahoma"/>
                <a:ea typeface="Tahoma"/>
              </a:rPr>
              <a:t>Семена развиваются «голыми» – на поверхности семенных чешуй шишек. К моменту созревания чешуйки отгибаются, и семена (нередко крылатые) высыпаются наружу.</a:t>
            </a:r>
            <a:br>
              <a:rPr sz="3200"/>
            </a:br>
            <a:r>
              <a:rPr b="0" lang="en-US" sz="3200" spc="-1" strike="noStrike">
                <a:solidFill>
                  <a:srgbClr val="172c07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в пищевой промышлен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2c07"/>
                </a:solidFill>
                <a:latin typeface="Tahoma"/>
                <a:ea typeface="Tahoma"/>
              </a:rPr>
              <a:t>Семена кедровой сосны и некоторых других хвойных употребляются в пищу, из них добывают масл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3" descr=""/>
          <p:cNvPicPr/>
          <p:nvPr/>
        </p:nvPicPr>
        <p:blipFill>
          <a:blip r:embed="rId1"/>
          <a:stretch/>
        </p:blipFill>
        <p:spPr>
          <a:xfrm>
            <a:off x="4819680" y="1981080"/>
            <a:ext cx="3467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в хозяйств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(ель, сосна, пихта, кедр, тсуга) – важнейший источник древесины и продуктов её переработки – бумаги, канифоли, скипидара, дёгтя, лаков, дубильных вещест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4" descr=""/>
          <p:cNvPicPr/>
          <p:nvPr/>
        </p:nvPicPr>
        <p:blipFill>
          <a:blip r:embed="rId1"/>
          <a:stretch/>
        </p:blipFill>
        <p:spPr>
          <a:xfrm>
            <a:off x="4911840" y="1981080"/>
            <a:ext cx="3282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1:07:18Z</dcterms:created>
  <dc:creator>Lussia</dc:creator>
  <dc:description/>
  <dc:language>en-US</dc:language>
  <cp:lastModifiedBy>Lussia</cp:lastModifiedBy>
  <dcterms:modified xsi:type="dcterms:W3CDTF">2008-07-30T21:18:03Z</dcterms:modified>
  <cp:revision>2</cp:revision>
  <dc:subject/>
  <dc:title>Хвойные растения</dc:title>
</cp:coreProperties>
</file>